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F290-B529-441F-9963-3B7DB3761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2B6D-031A-4868-BE98-6F0D42BFA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2773-089B-4AD3-9225-BCE324E86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6999-F7DF-4419-9575-993CFC633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5810-BFFA-4D43-9453-93ED99B95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486B-7BBC-4992-9212-E65690BA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4CF9-AB36-4AA1-8428-C4CD1626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2344-CB36-46F0-A2C2-D078E065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A967-F0B0-44BA-BCA1-903079A2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2819-D2EC-4CD6-B6EC-57D66B39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81F4-EAFC-4809-847F-B7714547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FEC3-F98B-4E82-9B6C-6D24629D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E31E-6F29-4E5F-9490-F0595DE7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5049-A96D-401C-8295-881B8A73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2688-08DA-4A01-B110-5B7E28A6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E8D8-2EC9-4F39-B972-76377C59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1BA6-2088-44FB-A04E-0C1EF751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01B3-A15C-4B4D-A36E-0A0F3CBA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E188-2BAB-4E65-B449-DC7932A2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0AA6-0141-41F6-BD5F-62CDB168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FE3F-9E87-4A4E-980C-49D42DF21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3DD6-BE51-4A7C-9E4F-0FB95A7D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512E-2168-4982-83E3-D020B001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6B56-5BA3-4F0F-A4A6-B00B7449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B0D2-C5B3-4644-8C4C-8056968B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3798-BE97-4FA9-BEC3-241C8276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8BF0-7AAF-44A8-97FF-63FB3149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47E7-7AA1-4416-95B5-8A855467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7D28-1B20-4F3A-A60A-2772C4F3D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8C41-0FD4-432D-9A97-FDB62AA28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Cum ne influenteaza televiziunea viata de zi cu zi?</a:t>
            </a:r>
            <a:r>
              <a:rPr b="0" lang="ro-RO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Picture 13" descr="j0078625"/>
          <p:cNvPicPr/>
          <p:nvPr/>
        </p:nvPicPr>
        <p:blipFill>
          <a:blip r:embed="rId2"/>
          <a:stretch/>
        </p:blipFill>
        <p:spPr>
          <a:xfrm>
            <a:off x="3886200" y="3505320"/>
            <a:ext cx="979560" cy="29718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14"/>
          <p:cNvSpPr/>
          <p:nvPr/>
        </p:nvSpPr>
        <p:spPr>
          <a:xfrm>
            <a:off x="5029200" y="2895480"/>
            <a:ext cx="2895480" cy="1524240"/>
          </a:xfrm>
          <a:prstGeom prst="cloudCallout">
            <a:avLst>
              <a:gd name="adj1" fmla="val -60634"/>
              <a:gd name="adj2" fmla="val -5625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s chaînes de télévision en Franc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120" y="301680"/>
            <a:ext cx="6931080" cy="68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… 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despre</a:t>
            </a:r>
            <a:r>
              <a:rPr b="1" lang="ro-RO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osturile TV din Fra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  <a:ea typeface="Arial"/>
              </a:rPr>
              <a:t>ţ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?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09480" y="1600200"/>
          <a:ext cx="8077320" cy="4770360"/>
        </p:xfrm>
        <a:graphic>
          <a:graphicData uri="http://schemas.openxmlformats.org/drawingml/2006/table">
            <a:tbl>
              <a:tblPr/>
              <a:tblGrid>
                <a:gridCol w="2667240"/>
                <a:gridCol w="2717640"/>
                <a:gridCol w="2692440"/>
              </a:tblGrid>
              <a:tr h="18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vrea s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ă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am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învăţ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Comic Sans MS"/>
                        </a:rPr>
                        <a:t>Stations de télévision en France sont attractifs parce que les programmes de divertissement, séries, documentaireset des nouvelles</a:t>
                      </a: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Comic Sans MS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Comic Sans MS"/>
                        </a:rPr>
                        <a:t>-Celles qui présente le spectacle le plus crédibl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Comic Sans MS"/>
                        </a:rPr>
                        <a:t>-Celles qui s'impliquer dans la réalisation des programmes de bienfaisance</a:t>
                      </a: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Comic Sans MS"/>
                        </a:rPr>
                        <a:t>-Des programmes de télévision savent très bien pour attirer les spectateurs la diversité des programm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" name="Picture 39" descr="j0078625"/>
          <p:cNvPicPr/>
          <p:nvPr/>
        </p:nvPicPr>
        <p:blipFill>
          <a:blip r:embed="rId2"/>
          <a:stretch/>
        </p:blipFill>
        <p:spPr>
          <a:xfrm>
            <a:off x="914400" y="0"/>
            <a:ext cx="552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3760" cy="14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6666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despre utilitatea unui post TV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bog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ăţ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rea vocabularului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 limba francez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ă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09480" y="1600200"/>
          <a:ext cx="8077320" cy="453060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rea s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ă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învăţ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ff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9900ff"/>
                          </a:solidFill>
                          <a:latin typeface="Comic Sans MS"/>
                        </a:rPr>
                        <a:t>- écoute quotidienne un spectacle en français  J'ai certainement apprendre de nouveaux mots</a:t>
                      </a:r>
                      <a:r>
                        <a:rPr b="0" lang="en-US" sz="2000" spc="-1" strike="noStrike">
                          <a:solidFill>
                            <a:srgbClr val="9900ff"/>
                          </a:solidFill>
                          <a:latin typeface="Verdana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ff"/>
                          </a:solidFill>
                          <a:latin typeface="Comic Sans MS"/>
                        </a:rPr>
                        <a:t>Je veux savoir s'il ya question “d'apprendre le français”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ff"/>
                          </a:solidFill>
                          <a:latin typeface="Comic Sans MS"/>
                        </a:rPr>
                        <a:t>-à lire facile regarder des spectacles sous-titré en franç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Picture 49" descr="j0078625"/>
          <p:cNvPicPr/>
          <p:nvPr/>
        </p:nvPicPr>
        <p:blipFill>
          <a:blip r:embed="rId2"/>
          <a:stretch/>
        </p:blipFill>
        <p:spPr>
          <a:xfrm>
            <a:off x="762120" y="0"/>
            <a:ext cx="4269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udia Cziprok</dc:creator>
  <dc:description/>
  <dc:language>en-US</dc:language>
  <cp:lastModifiedBy>t</cp:lastModifiedBy>
  <dcterms:modified xsi:type="dcterms:W3CDTF">2011-10-29T19:10:57Z</dcterms:modified>
  <cp:revision>27</cp:revision>
  <dc:subject>Life with Internet</dc:subject>
  <dc:title>Know-Wonder-Learn Dia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